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78BA-B11B-4407-9A88-5ECCDA4EF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8E72-3A02-49A5-A258-569FEE6F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911C-87F7-475B-A52A-BA4434E19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E763-8E1E-4521-8991-8E40F80B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73A9-D1C1-4303-A587-1571348A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77C6-490E-49A7-B860-B53BCB67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9E2C-1BAA-4B9C-B57E-F2DEC64B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9E39-DB40-46E0-A7D0-7C850E39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1489-AF25-4825-B151-2C961586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9FE0-9F07-4FAC-8483-BCA9E0DC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010F-21BD-43A7-A715-2AD2844B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9B07-22F7-487F-90B9-3F3EEE9B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8265-C647-4B7C-9E22-9653BC7E2044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914400" y="171360"/>
            <a:ext cx="8242200" cy="4876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24000" y="4220640"/>
            <a:ext cx="8640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000" spc="-1" strike="noStrike">
                <a:solidFill>
                  <a:srgbClr val="000000"/>
                </a:solidFill>
                <a:latin typeface="Comic Sans MS"/>
              </a:rPr>
              <a:t>Let’s get ready to rumble!!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000" spc="-1" strike="noStrike">
                <a:solidFill>
                  <a:srgbClr val="bfbfbf"/>
                </a:solidFill>
                <a:latin typeface="Comic Sans MS"/>
              </a:rPr>
              <a:t>26 letter sounds and  5 digraph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Jock Jams - Lets Get Ready To Rumble.mp3" descr=""/>
          <p:cNvPicPr/>
          <p:nvPr/>
        </p:nvPicPr>
        <p:blipFill>
          <a:blip r:embed="rId2"/>
          <a:stretch/>
        </p:blipFill>
        <p:spPr>
          <a:xfrm>
            <a:off x="755640" y="55166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advTm="1000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j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u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9280" y="404640"/>
            <a:ext cx="8229600" cy="593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l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m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n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i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v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r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g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sh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ch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wh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ph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th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k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w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z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41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0" spc="-1" strike="noStrike">
                <a:solidFill>
                  <a:srgbClr val="ff0000"/>
                </a:solidFill>
                <a:latin typeface="Comic Sans MS"/>
              </a:rPr>
              <a:t>h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8:38:51Z</dcterms:created>
  <dc:creator>Katie Goodridge</dc:creator>
  <dc:description/>
  <dc:language>en-US</dc:language>
  <cp:lastModifiedBy>Wendy Dorothy</cp:lastModifiedBy>
  <dcterms:modified xsi:type="dcterms:W3CDTF">2011-09-29T20:41:19Z</dcterms:modified>
  <cp:revision>17</cp:revision>
  <dc:subject/>
  <dc:title>Word Rumble</dc:title>
</cp:coreProperties>
</file>